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0CA5-7597-40BA-B063-1117B6FC1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1534-5C5E-4257-807E-568E6649E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145A-1B10-479C-807B-DC1C5520C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9F07-0EDE-43E2-8206-CE427120E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73900-51C7-4368-BCE0-B30429D13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60B32-6C58-4FA4-9DF9-1E299B913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74245-C207-49B9-BE9C-0A4F17452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D7F78-BED5-4306-98A6-4732F8FC2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77D79-6249-4F09-8B51-25B9116C9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EFF96-BFF2-42CD-B94C-3516938F7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070BE-EA5D-4A34-9DEA-37CCBBEB9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96C3-BCE2-4F85-9A12-0848220A4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DF57D-7F35-4A11-8CEA-263BDFC60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C4F2A-0BAF-4E5E-8D56-14D08191A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16C0A-564B-4C81-9E73-17E2D6124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C12E0-DF1B-4317-8B94-442764E26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24585-FAA7-4065-AC0F-1C1143428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04A7-0837-4074-AC2F-842EE887E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136B-EB05-4CFD-A48F-99A9000BE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658A-209B-491C-A135-5A9219CC3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5773-EF0A-402B-A584-9EEE69CC4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E83D-29EE-4451-917B-6ABEF204B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7714-223F-4500-BB79-0E0CB7E97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DF17-0C1D-4B84-AF9C-7836EF7F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708B0-632F-4BE0-B052-F07C71B0181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FC877-431C-4129-B7F9-98B74672CD3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Rights Advisemen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id Basaldu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Right to Counsel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Why right to retain legal counsel important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nces are that you are not a subject matter expert on the la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taining a lawyer can only increase your chances of being protected under the la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cannot afford an attorney a court appointed lawyer will be afforded to yo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Remember…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CHOOSE TO WAIVE YOUR RIGHT TO REMAIN SILENT, YOU CAN ALWAYS STOP OR REQUEST LEGAL COUNSEL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Why are your rights important as a whole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can protect you against improper use of the law such as coerc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coerci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the practice of compelling a person or manipulating them to behave in an involuntary way by use of threats, intimidation, trickery, or some other form of pressure or forc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972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7414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8221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Rights Advisemen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re commonly known as Miranda Rights or Miranda Warning is important to every citizen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History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iranda warnings were mandated by the 1966 United States Supreme Court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ision in the case of Miranda v. Arizona. The decision reversed an Arizona court's conviction of Ernesto Miranda on kidnapping and rape charges. Identified in a police lineup, Miranda had been questioned, had confessed, and had signed a written statement without being told that he had a right to a lawyer; his confession was used at trial. In overturning Miranda's conviction, Chief Justice Earl Warren held that the prosecution may not use statements made by a person in police custody unless certain minimum procedural safeguards were in plac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What are your rights??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ight to remain silent to protect yourself against self-incrimination-5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mend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you waive your 5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mendment right, what you say may be used against you as evid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ight to retain legal counsel either retained by yourself or by the court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t you have the right, even after beginning to answer questions, to stop answering or request an attorn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Example of what a rights advisement may appear as…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investigator whose name appears below told me that he/she is with the United States Army Criminal Investigation Division and has advised me that I am suspected/accused of: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fore he/she asked me any questions about the offense(s), however, he/she made it clear to me that I have the following rights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. I do not have to answer any question or say anything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 Anything I say or do can be used as evidence against me in a criminal trial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(For personnel subject othe UCMJ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 have the right to talk privately to a lawyer before, during, and after questioning and to have a lawyer present with me during questioning. This lawyer can be a civilian lawyer I arrange for at no expense to the Government or a military lawyer detailed for me at no expense to me, or both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(For civilians not subject to the UCMJ)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 have the right to talk privately to a lawyer before, during, and after questioning and to have a lawyer present with me during questioning. I understand that this lawyer can be one that I arrange for at my own expense, or if I cannot afford a lawyer and want one, a lawyer will be appointed for me before any questioning begin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. If I am now willing to discuss the offense(s) under investigation, with or without a lawyer present, I have a right to stop answering questions at any time, or speak privately with a lawyer before answering further, even if I sign the waiver below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bbd71"/>
                </a:solidFill>
                <a:latin typeface="Arial"/>
              </a:rPr>
              <a:t>Right to remain silent is important because…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you waive your 5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mendment right, what you say may be used against you as evid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5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mendment protects against abuse of government authority in a legal proced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 person shall be held to answer for a capital, or otherwise infamous crime, unless on presentment or indictment of a Grand Jury, except in cases arising in the land or naval forces, or in the Militia, when in actual service in time of War or public danger; nor shall any person be subject for the same offense to be twice put in jeopardy of life or limb; nor shall be compelled in any criminal case to be a witness against himself, nor be deprived of life, liberty, or property, without due process of law; nor shall private property be taken for public use, without just compensation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29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94169" fill="hold"/>
                                        <p:tgtEl>
                                          <p:spTgt spid="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0T23:05:40Z</dcterms:created>
  <dc:creator>David Basaldua</dc:creator>
  <dc:description/>
  <dc:language>en-US</dc:language>
  <cp:lastModifiedBy>David Basaldua</cp:lastModifiedBy>
  <dcterms:modified xsi:type="dcterms:W3CDTF">2009-06-11T06:07:39Z</dcterms:modified>
  <cp:revision>6</cp:revision>
  <dc:subject/>
  <dc:title>Rights Advisal </dc:title>
</cp:coreProperties>
</file>